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777-277E-4912-B39B-0E6409CF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C94-E2E4-4399-BB15-83845F4B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E86-D97E-46E7-A021-D1CD9B5F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C16-1A07-4C1D-AD2D-62E892A0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301-3A62-4066-94AC-4FC12757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251-4D13-4500-A691-C56755DA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D63-5894-4175-9A8F-5C78CB4A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E3A-E998-42A9-9B10-7C168167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625-1D5F-4835-A4C3-159DDB0A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44E-DB21-4926-AD6B-62FA58E2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B8A-C3DB-4C31-9FEF-CED14DC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5DD-C301-46BD-BB28-D7AF9DD7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3C4F-DE5A-4AE4-8C53-D7D81DA24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ent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ow long shall we cry for hel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lis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r cry to you, ‘Violence!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s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 and hope, we respo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long, O people, how l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is your justice,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rea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compa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o you not care for your peop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reation, your repu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urpose is hid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ur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reason is absent to our 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passion is not discerned by 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l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afr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me demand 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others seek ins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we have only Christ cruc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tumbling block and f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wisdom of our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 is the power and wisdom of God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rely wisdom is vindi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her d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1 Corinthians 1:22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11: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, we appeal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hope, we will not let God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love, we claim God’s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et us honour th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receives our cri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gathers us to herself even as we continue to c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23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9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50:57Z</dcterms:created>
  <dc:creator>Anon Anon</dc:creator>
  <dc:description/>
  <dc:language>en-US</dc:language>
  <cp:lastModifiedBy>Anon Anon</cp:lastModifiedBy>
  <dcterms:modified xsi:type="dcterms:W3CDTF">2005-08-09T05:17:18Z</dcterms:modified>
  <cp:revision>17</cp:revision>
  <dc:subject/>
  <dc:title>Lament (SLD-2)</dc:title>
</cp:coreProperties>
</file>